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102-A4B6-40DD-BCA7-D000DAA1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3D7-907F-4DA3-9B84-2E11595D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E12-5DD4-4F69-8C9A-F2D58CC0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0DA-F069-450D-82E2-DF05A08F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73E-94C6-49B0-8692-BA2D8B96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00A8-3C81-4C01-83E8-24815C1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6D7-0B14-4001-9DA5-5CBECC0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51D-2543-4BAA-B4F4-9AAD95ED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84A-9E61-41B6-BC5D-ED95D8CB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7E58-C030-4C4F-906C-7C1F23E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15A-FACE-4995-A6B5-B04DDAC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0F6-8AC2-48B4-8576-2F5E9665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855-9D27-451E-AAD9-806E8E0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1917-6AFE-4613-BA6B-EC731D5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AA1C-4398-4000-B8DE-EC5A48F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6AD-B30D-482D-A325-FE087354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E8A8-7CA7-4109-904F-EF4A3335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0E5-780C-40BA-BFEE-5FFE258F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79D-3D8C-4777-87BB-B6452E99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024-E46B-497F-8DB0-0E48CABA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2E1-0FFD-4E60-87DC-2CB5660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CD9-1E75-40D3-8A09-836B59B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3D8-4068-46BE-AC97-63B41EC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18D-DDF6-47A3-8F26-F9AD130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BC79-43EF-45DE-887C-D6C173D60AB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e66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1760-0384-409D-AC73-99CB65F0303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e662"/>
                </a:solidFill>
                <a:latin typeface="Arial"/>
              </a:rPr>
              <a:t>Optical Computing – Stand und Perspektiven</a:t>
            </a:r>
            <a:endParaRPr b="0" lang="en-US" sz="5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hristian Seeman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2f"/>
                </a:solidFill>
                <a:latin typeface="Arial"/>
              </a:rPr>
              <a:t>http://members.fortunecity.com/chrisseeman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Massenspeicher im Vergleich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90720" y="1166760"/>
            <a:ext cx="6858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Prinzip des Optischen Lesens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Optische Schreibverfahren (1)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523880"/>
          <a:ext cx="8226360" cy="4519800"/>
        </p:xfrm>
        <a:graphic>
          <a:graphicData uri="http://schemas.openxmlformats.org/drawingml/2006/table">
            <a:tbl>
              <a:tblPr/>
              <a:tblGrid>
                <a:gridCol w="4419720"/>
                <a:gridCol w="38066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schreibung des Verfahren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wendungsgebi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rreversible Veränderung der Reflexionseigenschaften eines org. Farbstoffs (Dye) durch Erhitzen mit Lase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nmalig beschreibbare optische Medien für Kleinserie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änderung des Reflexions verhaltens durch Phasen-wechsel von Kristalle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ederbeschreibbare optische Medien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Optische Schreibverfahren (2)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5760" y="1598760"/>
          <a:ext cx="8226360" cy="462096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schreibung des Verfahren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wendungsgebie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ennen von Pits in foto-empfindliches Material (Fotolack) mittels Laser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rstellung eines Glas-masters in der Massen-fertigung von ROM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en von Pitmustern mittels Pressmatrizen in Polycarbon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vorgang in der industriellen Massen-fertigung von ROM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Optimierungsparameter </a:t>
            </a:r>
            <a:r>
              <a:rPr b="0" lang="de-DE" sz="4000" spc="-1" strike="noStrike">
                <a:solidFill>
                  <a:srgbClr val="ffe662"/>
                </a:solidFill>
                <a:latin typeface="Arial"/>
              </a:rPr>
              <a:t>für optische Speichermedien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981080"/>
            <a:ext cx="822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Die Laserwellenlänge (</a:t>
            </a:r>
            <a:r>
              <a:rPr b="0" lang="de-DE" sz="32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) und die Numerische Apertur (NA) der Lins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minimal erreichbare Pitgröße: Proportionalität zum Quotienten </a:t>
            </a:r>
            <a:r>
              <a:rPr b="0" lang="de-DE" sz="32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/N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Speicherdichte: Proportionalität zu (NA/</a:t>
            </a:r>
            <a:r>
              <a:rPr b="0" lang="de-DE" sz="32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)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e662"/>
                </a:solidFill>
                <a:latin typeface="Arial"/>
              </a:rPr>
              <a:t>Vorteile optischer Speichermedien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447560"/>
            <a:ext cx="822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Hohe Speicherkapazität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hohe Portabilität durch geringe Größ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berührungslose Lesevorgänge verhindern Medienverschleiß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Unempfindlichkeit gegenüber magnetischen Einflüsse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Gute Langzeitspeichereigenschaften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Heutige optische Speichermedien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22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act Disc (CD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V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lue Ray Disc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305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3.1. </a:t>
            </a: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Optische Speichermedien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3.1.2. Die Compact Disc (CD)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CD-Applikationsformate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828800" y="1677960"/>
            <a:ext cx="57913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CD - Physischen Formate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598760"/>
            <a:ext cx="8763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act Disc-Read Only Memory (CD-ROM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act Disc Recordable (CD-R)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act Disc Rewritable (CD-RW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828440"/>
            <a:ext cx="822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Begriffsdefinition &amp; Histori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Stand des Optical Computing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Perspektiven des Optical Computing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hysischer Aufbau einer CD-ROM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79246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Physischer Aufbau einer CD-R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913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hysischer Aufbau einer CD-RW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43160" y="1598760"/>
            <a:ext cx="6451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Haltbarkeit einer CD </a:t>
            </a:r>
            <a:br>
              <a:rPr sz="4000"/>
            </a:b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– keiner wei</a:t>
            </a:r>
            <a:r>
              <a:rPr b="0" lang="en-US" sz="4000" spc="-1" strike="noStrike">
                <a:solidFill>
                  <a:srgbClr val="ffe662"/>
                </a:solidFill>
                <a:latin typeface="Arial"/>
                <a:ea typeface="Times New Roman"/>
              </a:rPr>
              <a:t>ß es</a:t>
            </a:r>
            <a:r>
              <a:rPr b="0" lang="en-US" sz="4000" spc="-1" strike="noStrike">
                <a:solidFill>
                  <a:srgbClr val="ffe662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e662"/>
                </a:solidFill>
                <a:latin typeface="Arial"/>
                <a:ea typeface="Times New Roman"/>
              </a:rPr>
              <a:t>genau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5359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  <a:ea typeface="굴림"/>
              </a:rPr>
              <a:t>Hersteller behaupten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  <a:ea typeface="굴림"/>
              </a:rPr>
              <a:t>mathematische Modelle und industriegenormte Test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  <a:ea typeface="굴림"/>
              </a:rPr>
              <a:t>CD-R:    70 bis 200 Jahre (je nach Farbstoff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  <a:ea typeface="굴림"/>
              </a:rPr>
              <a:t>CD-RW: 35-70 Jah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굴림"/>
              </a:rPr>
              <a:t> </a:t>
            </a:r>
            <a:r>
              <a:rPr b="0" lang="de-DE" sz="2800" spc="-1" strike="noStrike">
                <a:solidFill>
                  <a:srgbClr val="f8f8f8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  <a:ea typeface="굴림"/>
              </a:rPr>
              <a:t>Umgebungstemperatur und UV-Lich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  <a:ea typeface="굴림"/>
              </a:rPr>
              <a:t>Verflüchtigung der Inhaltsstoffe des verwendeten Kunststoff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305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3.1. </a:t>
            </a: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Optische Speichermedien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3.1.3. Die DVD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Die DVD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Multimediale Anwendungen und Filme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Times New Roman"/>
              </a:rPr>
              <a:t>überfordern die C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Digital Video Disc“ ?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Digital Versatile Disc“ 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DVD Forum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Standardpflege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CD vs. DVD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1371600"/>
          <a:ext cx="8453520" cy="5054760"/>
        </p:xfrm>
        <a:graphic>
          <a:graphicData uri="http://schemas.openxmlformats.org/drawingml/2006/table">
            <a:tbl>
              <a:tblPr/>
              <a:tblGrid>
                <a:gridCol w="3276720"/>
                <a:gridCol w="1501560"/>
                <a:gridCol w="367524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urabstand (track pitch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6 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4 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tgröß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34 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 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llenlänge des Lasers (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 n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5 nm oder 650 n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erische Apertur (NA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zahl der Seiten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s zu 2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zahl Schichten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s zu 2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cke einer Seit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 m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 m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eisystem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O 966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al Disk Format (UDF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UDF &amp; Mount Rainier Group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UDF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Optical Storage Technology Association (OSTA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Standarddateiformat für optische Wechselplatte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Mount Rainier Spezifikation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UDF basieren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Ziel: Vereinfachung der Benutzung von optischen RW Medie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Wahrung der Austauschbarkeit von Medie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Formatierung des Datenträgers im Hintergrun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Management von defekten Sektore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Drag und Drop f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ür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Dateien</a:t>
            </a: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hysischer Aufbau einer DVD-ROM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Applikationsformat DVD-Video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447560"/>
            <a:ext cx="8535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4,7 GB DVD bis zu 133 Minuten Film (720 x 480) mit digitalem Surround Sound bei MPEG-2 Kompress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Mehrere Sprachen in Ton und Untertitel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verschiedene Bildschirmformate (16:9, 4:3)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Menüs zur Navigation &amp; 9 Kameraperspektive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Optionaler DVD Region Cod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Content Protection System Architecture (CPSA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1. Motivation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Applikationsformat DVD-Audio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59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1999 veröffentlicht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Erweiterung von Frequenzbereich &amp; Dynamikf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굴림"/>
              </a:rPr>
              <a:t>ä</a:t>
            </a: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higkeit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Kompressionsverfahren Meridian Lossless Packing (MLP)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8f8f8"/>
                </a:solidFill>
                <a:latin typeface="Arial"/>
                <a:ea typeface="굴림"/>
              </a:rPr>
              <a:t>verlustfreie Kompression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8f8f8"/>
                </a:solidFill>
                <a:latin typeface="Arial"/>
                <a:ea typeface="굴림"/>
              </a:rPr>
              <a:t>zwischen 25 und 50 Prozent höhere Spielzeite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Audiodaten mit Bildern, Text und Video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DVD-Audio Kopierschutz: Content Protection for Pre-recorded Media (CPPM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CM DVD-Audio vs. </a:t>
            </a:r>
            <a:br>
              <a:rPr sz="4000"/>
            </a:b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CM CD-Audio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6360" cy="4775040"/>
        </p:xfrm>
        <a:graphic>
          <a:graphicData uri="http://schemas.openxmlformats.org/drawingml/2006/table">
            <a:tbl>
              <a:tblPr/>
              <a:tblGrid>
                <a:gridCol w="2741400"/>
                <a:gridCol w="3203640"/>
                <a:gridCol w="2281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CM DVD-Aud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CM CD-Aud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zbereic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-96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20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ynamikbereic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4 D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 D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pling Rate für 2 Kanäl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,1, 88,2, 176,4 KHz oder 48, 96, 192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,1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hrkanal Sampling Ra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,1 und 88,2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der 48 und 96 KH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cht unterstütz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ntisierungslev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 16, 20 oder 24 Bit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Bit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. Spieldau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 mi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 mi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e662"/>
                </a:solidFill>
                <a:latin typeface="Arial"/>
              </a:rPr>
              <a:t>Etablierte physische DVD Formate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-Read Only Memory (DVD-ROM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-Recordable (DVD-R) &amp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+Recordable (DVD+R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-Random Access Memory (DVD-RAM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-Re-recordable (DVD-RW) &amp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VD+Rewritable (DVD+RW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62"/>
                </a:solidFill>
                <a:latin typeface="Arial"/>
              </a:rPr>
              <a:t>Technischer Vergleich von DVD Medien</a:t>
            </a:r>
            <a:endParaRPr b="0" lang="en-US" sz="32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04920" y="1600200"/>
          <a:ext cx="8686800" cy="4505400"/>
        </p:xfrm>
        <a:graphic>
          <a:graphicData uri="http://schemas.openxmlformats.org/drawingml/2006/table">
            <a:tbl>
              <a:tblPr/>
              <a:tblGrid>
                <a:gridCol w="2286000"/>
                <a:gridCol w="1218960"/>
                <a:gridCol w="1067040"/>
                <a:gridCol w="1447560"/>
                <a:gridCol w="1295640"/>
                <a:gridCol w="137160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VD-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VD+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VD-RA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VD-RW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VD+RW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Verfügbar sei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9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20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99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99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20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atenspeichernde Schich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y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y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Krista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Krista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Krista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Form der Datenspur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Groove + Land PrePi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Groov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Land &amp; Groov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Groove + Land PrePi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Groov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Spurabstan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,74 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,74 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,615 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,74 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,74 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Wiederbeschreibbar-keitszykle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305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3.1. </a:t>
            </a: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Optische Speichermedien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3.1.4. Die Blue Ray Disc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Die Blue-Ray Disc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nutzt Phase Change Technologi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1,1 mm Substrat + 0,1 mm Schutzschich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verwendet blaue Laser (</a:t>
            </a:r>
            <a:r>
              <a:rPr b="0" lang="de-DE" sz="24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 =405 nm) und hoch präzise Linsen (NA=0,85)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ür </a:t>
            </a: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bis zu 54 GB bei 36 Mbps (später 72 Mbps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Aufnahme von bis zu 4 Stunden HD-Video mit MPEG2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305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e662"/>
                </a:solidFill>
                <a:latin typeface="Arial"/>
              </a:rPr>
              <a:t>3.1. </a:t>
            </a:r>
            <a:r>
              <a:rPr b="0" lang="de-DE" sz="3200" spc="-1" strike="noStrike">
                <a:solidFill>
                  <a:srgbClr val="ffe662"/>
                </a:solidFill>
                <a:latin typeface="Arial"/>
              </a:rPr>
              <a:t>Optische Speichermedien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ffe662"/>
                </a:solidFill>
                <a:latin typeface="Arial"/>
              </a:rPr>
              <a:t>3.1.5. Herstellungskosten und Handelspreise</a:t>
            </a:r>
            <a:endParaRPr b="0" lang="en-US" sz="32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DVD Medien Preisentwicklung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Strassenpreise Okt. 2003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8600" y="1752480"/>
          <a:ext cx="8686800" cy="4589640"/>
        </p:xfrm>
        <a:graphic>
          <a:graphicData uri="http://schemas.openxmlformats.org/drawingml/2006/table">
            <a:tbl>
              <a:tblPr/>
              <a:tblGrid>
                <a:gridCol w="2438280"/>
                <a:gridCol w="2835360"/>
                <a:gridCol w="3413160"/>
              </a:tblGrid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ysisches Forma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icherkapazität  [G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is Medium [U.S. cent/M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-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4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+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-RW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+RW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VD-RA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4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-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-RW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Herstellungskosten optischer Wechselmedien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375240" cy="48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Diskrepanz: </a:t>
            </a:r>
            <a:r>
              <a:rPr b="0" lang="de-DE" sz="4000" spc="-1" strike="noStrike">
                <a:solidFill>
                  <a:srgbClr val="ffe662"/>
                </a:solidFill>
                <a:latin typeface="Arial"/>
              </a:rPr>
              <a:t>heutige Technologien</a:t>
            </a: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 und </a:t>
            </a:r>
            <a:r>
              <a:rPr b="0" lang="de-DE" sz="4000" spc="-1" strike="noStrike">
                <a:solidFill>
                  <a:srgbClr val="ffe662"/>
                </a:solidFill>
                <a:latin typeface="Arial"/>
              </a:rPr>
              <a:t>zukünftige Anforderungen 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2666520"/>
            <a:ext cx="822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physikalische Grenzen des Elektrons sp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Times New Roman"/>
              </a:rPr>
              <a:t>ü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rbar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Lösungsansatz: Licht als Träger von Informatione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000"/>
            </a:b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e662"/>
                </a:solidFill>
                <a:latin typeface="Arial"/>
              </a:rPr>
              <a:t>3.2. Lichtwellenleiter in der Netzwerktechnik</a:t>
            </a:r>
            <a:endParaRPr b="0" lang="en-US" sz="32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Lichtwellenleiter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Photodiode (LED oder Laser) sendet Lichtimpulse au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optischer Sensor nimmt die Lichtimpulse wieder auf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Prinzip der Totalreflexion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keine elektromagnetischen Interferenzen: mehr als 160 k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Dense Wavelength Division Multiplexing (DWDM)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mehrere Datenströme gleichzeitig über einen einzelnen Lichtwellenleit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Kosten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Zweifas. Glasfaserkabel (Innen): 1,15 EUR pro Met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übrige Netzwerkhardware: sehr teu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aber Zukunftssicherheit durch bis zu 40 Gbp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4. Perspektiven des Optical Computing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4.1. Optische Speichertechnologien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e662"/>
                </a:solidFill>
                <a:latin typeface="Arial"/>
              </a:rPr>
              <a:t>Vergleich zukünftiger opt. Speicher-technologien mit der Blue-Ray Disc</a:t>
            </a: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320" y="1676520"/>
          <a:ext cx="8915400" cy="4694040"/>
        </p:xfrm>
        <a:graphic>
          <a:graphicData uri="http://schemas.openxmlformats.org/drawingml/2006/table">
            <a:tbl>
              <a:tblPr/>
              <a:tblGrid>
                <a:gridCol w="4800600"/>
                <a:gridCol w="1828800"/>
                <a:gridCol w="1371600"/>
                <a:gridCol w="914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ramete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ue-Ray D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FD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DO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apazität Medien der initialen Generation [GB]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,3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,3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x. Geplante Kapazität bis 2007 [GB]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enübertragungsrate initiale Generation [MB/s]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5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x. Geplante Datenübertragungsrate [MB/s]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schätzter Preis pro Medium [USD]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 bis 5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rtridg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Holographie - Grundlagen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8600" y="1901880"/>
            <a:ext cx="8763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Holographie &amp; Digitale Datenspeicherung 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622520"/>
            <a:ext cx="70866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320" y="1371600"/>
            <a:ext cx="9067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4. </a:t>
            </a: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Perspektiven des Optical Computing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4.2. Optische Transistoren und Gatter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Prinzip eines optischen Transistors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0" r="0" b="48498"/>
          <a:stretch/>
        </p:blipFill>
        <p:spPr>
          <a:xfrm>
            <a:off x="152280" y="1725480"/>
            <a:ext cx="883944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320" y="1371600"/>
            <a:ext cx="8991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4. Perspektiven des Optical Computing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4.3. Optische Prozessoren</a:t>
            </a:r>
            <a:endParaRPr b="0" lang="en-US" sz="36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662"/>
                </a:solidFill>
                <a:latin typeface="Arial"/>
              </a:rPr>
              <a:t>Fotonische Kristalle – Halbleiter </a:t>
            </a:r>
            <a:r>
              <a:rPr b="0" lang="de-DE" sz="3600" spc="-1" strike="noStrike">
                <a:solidFill>
                  <a:srgbClr val="ffe662"/>
                </a:solidFill>
                <a:latin typeface="Arial"/>
              </a:rPr>
              <a:t>für Licht</a:t>
            </a: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</a:rPr>
              <a:t>Frequenz-Bandlücke: keine Ausbreitung von Lich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Konditionen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8f8f8"/>
                </a:solidFill>
                <a:latin typeface="Arial"/>
                <a:ea typeface="굴림"/>
              </a:rPr>
              <a:t>räumlich periodische Variation des Brechungsindexes im Kristal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8f8f8"/>
                </a:solidFill>
                <a:latin typeface="Arial"/>
                <a:ea typeface="굴림"/>
              </a:rPr>
              <a:t>räumliche Periode = Wellenlänge des Licht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Streuung der Lichtwellen durch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8f8f8"/>
                </a:solidFill>
                <a:latin typeface="Arial"/>
                <a:ea typeface="굴림"/>
              </a:rPr>
              <a:t>Kristallstruktur und Variation des Brechungsindex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1991 erster fotonischer Kristall: cm-wellenbereich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John 2001 Bandlücke von 1,5 Mikromet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8f8f8"/>
                </a:solidFill>
                <a:latin typeface="Arial"/>
                <a:ea typeface="굴림"/>
              </a:rPr>
              <a:t>Industrielle Fertigung: noch 9 bis 10 Jah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Vorteile des Mediums Licht 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90512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Ausbreitungsgeschwindigkeit von Fotonen 0,3 Milliarden m/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ungestörte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Times New Roman"/>
              </a:rPr>
              <a:t>Ü</a:t>
            </a: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berlagerung von Fotonen verschiedener Frequenzen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8f8f8"/>
                </a:solidFill>
                <a:latin typeface="Arial"/>
              </a:rPr>
              <a:t>Fotonen sind ladungsfrei und produzieren kaum Wärm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e662"/>
                </a:solidFill>
                <a:latin typeface="Arial"/>
              </a:rPr>
              <a:t>Danke!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2. Begriffsdefinition &amp; Historie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Was ist Optical Computing?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8400"/>
            <a:ext cx="87631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Verwendung optischer Techniken für die Implementierung von IuK-Systeme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Codierung von Informationen als optische Signa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Performanzsteigerung durch Nutzung der Charakteristiken des Mediums Lich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8f8f8"/>
                </a:solidFill>
                <a:latin typeface="Arial"/>
              </a:rPr>
              <a:t>Dynamisch: täglich Neuentwicklunge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62"/>
                </a:solidFill>
                <a:latin typeface="Arial"/>
              </a:rPr>
              <a:t>Historie des Optical Computing</a:t>
            </a:r>
            <a:endParaRPr b="0" lang="en-US" sz="4400" spc="-1" strike="noStrike">
              <a:solidFill>
                <a:srgbClr val="ffe662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80880" y="1219320"/>
            <a:ext cx="8534520" cy="4798800"/>
            <a:chOff x="380880" y="1219320"/>
            <a:chExt cx="8534520" cy="4798800"/>
          </a:xfrm>
        </p:grpSpPr>
        <p:sp>
          <p:nvSpPr>
            <p:cNvPr id="226" name=""/>
            <p:cNvSpPr/>
            <p:nvPr/>
          </p:nvSpPr>
          <p:spPr>
            <a:xfrm>
              <a:off x="380880" y="1219320"/>
              <a:ext cx="8534520" cy="4798800"/>
            </a:xfrm>
            <a:prstGeom prst="can">
              <a:avLst>
                <a:gd name="adj" fmla="val 25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4292280" y="-293760"/>
              <a:ext cx="710280" cy="8356680"/>
            </a:xfrm>
            <a:prstGeom prst="can">
              <a:avLst>
                <a:gd name="adj" fmla="val 525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47280" y="4239720"/>
              <a:ext cx="720" cy="88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040" y="2107080"/>
              <a:ext cx="1510920" cy="355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53 MASER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81880" y="3706560"/>
              <a:ext cx="976680" cy="307800"/>
            </a:xfrm>
            <a:prstGeom prst="rect">
              <a:avLst/>
            </a:prstGeom>
            <a:solidFill>
              <a:srgbClr val="ff6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50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4840" y="3706560"/>
              <a:ext cx="799920" cy="354600"/>
            </a:xfrm>
            <a:prstGeom prst="rect">
              <a:avLst/>
            </a:prstGeom>
            <a:solidFill>
              <a:srgbClr val="ff6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2000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25320" y="1575000"/>
              <a:ext cx="1422360" cy="354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60 LASER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7400" y="5306400"/>
              <a:ext cx="1333440" cy="710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70 CD-Prototyp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92280" y="3706560"/>
              <a:ext cx="977760" cy="355680"/>
            </a:xfrm>
            <a:prstGeom prst="rect">
              <a:avLst/>
            </a:prstGeom>
            <a:solidFill>
              <a:srgbClr val="ff6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75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0400" y="1752480"/>
              <a:ext cx="1333440" cy="710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81 CD-Standard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36800" y="5306400"/>
              <a:ext cx="1155240" cy="711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89 opt. Transistor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03840" y="2640240"/>
              <a:ext cx="1244520" cy="355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96 DVD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9440" y="5127840"/>
              <a:ext cx="2222280" cy="710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1930 Demonstration eines Lichtwellenleiter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47480" y="2463120"/>
              <a:ext cx="720" cy="10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25600" y="1929600"/>
              <a:ext cx="720" cy="159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25520" y="4240080"/>
              <a:ext cx="1080" cy="10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536800" y="2463120"/>
              <a:ext cx="720" cy="10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248160" y="4240080"/>
              <a:ext cx="720" cy="10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37000" y="2996280"/>
              <a:ext cx="72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305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662"/>
                </a:solidFill>
                <a:latin typeface="Arial"/>
              </a:rPr>
              <a:t>3. Stand des Optical Computing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e662"/>
                </a:solidFill>
                <a:latin typeface="Arial"/>
              </a:rPr>
              <a:t>3.1. </a:t>
            </a:r>
            <a:r>
              <a:rPr b="0" lang="de-DE" sz="3200" spc="-1" strike="noStrike">
                <a:solidFill>
                  <a:srgbClr val="ffe662"/>
                </a:solidFill>
                <a:latin typeface="Arial"/>
              </a:rPr>
              <a:t>Optische Speichermedien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ffe662"/>
                </a:solidFill>
                <a:latin typeface="Arial"/>
              </a:rPr>
              <a:t>3.1.1. Einordnung optischer Speichermedien</a:t>
            </a:r>
            <a:endParaRPr b="0" lang="en-US" sz="3200" spc="-1" strike="noStrike">
              <a:solidFill>
                <a:srgbClr val="ffe6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06:39Z</dcterms:created>
  <dc:creator> </dc:creator>
  <dc:description/>
  <dc:language>en-US</dc:language>
  <cp:lastModifiedBy> </cp:lastModifiedBy>
  <dcterms:modified xsi:type="dcterms:W3CDTF">2003-12-01T21:02:43Z</dcterms:modified>
  <cp:revision>47</cp:revision>
  <dc:subject/>
  <dc:title>Hallo</dc:title>
</cp:coreProperties>
</file>